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478-CA13-4F79-BA58-146EFE69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2CC-1EDB-4097-B9DC-186254B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2F2E4-AFF0-4BF6-8DF9-51F063E8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B69CF-DA74-45E3-91EC-F35A7A1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8D3FC-AC52-42EC-A295-8E1302E2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059C4-289A-4CFF-9BF2-41CF8CB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27B34-1E7A-4DDC-A41E-2B2006F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CAD3-1410-4A50-BC78-4D3247C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9FD55-16EF-49A5-8FEC-06022A4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C2615-5420-4417-A864-E97C4538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08A25-199D-4C1F-BF4B-24439218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0886A-96AF-4B1E-8A48-1D7770C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10D-3353-4767-8174-70B94637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63014-F592-415F-A31D-B2E5B20C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1FE7D-E2CB-44DB-97B9-C37B142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1D0A5-7BD1-490A-B67E-F434C670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89831-66D1-4651-924F-174B68D4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95598-071C-46AC-8E10-01AECF4E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9401E-856D-4163-B6E7-6ACEBDF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7D24-AD2C-4EB7-8A7C-132B0B1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E27D-8184-4148-BB89-B6AB3DE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2FCD-218E-4F66-8AA3-80886E7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FDBE3-8E22-4819-B17F-AF5C2114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30A-9805-4380-939D-2247C5C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E08C-660F-4EE6-8527-1F7FABF4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1B0E4-7A04-4578-B250-745059F8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8CA5-0B29-4022-9180-1081288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A285-4D8F-4094-8B0A-A6BA0E7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CC043-B45F-4BA6-971C-BFF7054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4F9BA-F9C8-4811-8D9B-C6FB2C2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5142D-6C69-4143-BEA1-DE0B905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3417-BE2B-4C2A-9EA7-B01629A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44D69-4253-4CD2-9F4B-252E7E6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658A9-2742-4CC0-9D8B-FD74F1D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C50-3352-4B60-9674-5671926C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6A3F0-1FD7-4EA3-8E7A-F4A7FC3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02CC-199C-4854-88A9-9A40C36E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9DA26-54E0-4562-832C-7435DE9C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4A8D0-4C6C-4365-97EA-5D66C937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1878F-C2CD-4858-9CE4-4F65F70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3726B-BC6A-4F36-B0F6-E9CCB8C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9C220-5DBD-4C9B-B368-1AE9D77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10C5F-C374-4402-AC83-6ACF14FE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6F24D-60FD-408C-B33A-A5276B55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842FC-D4C6-4FB6-B79D-A4C47A0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C87D-7D4D-4447-A7EC-BB791EB6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88397-12B2-4DD1-B2E9-E3E5CAE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82680-BD60-42CA-A0C4-F7C763C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B236A-51B7-46DF-98EB-7FF80A4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85FB-2244-483C-AE15-608FA491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E578-872E-494E-ABE9-E114082C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B6AD-1C09-4845-BD5D-2C727AC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7F0-884A-45FB-B35F-1EC93174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1EE3-306B-48F5-BE8C-EE0C218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BB5-9B65-4054-9961-DAAAE865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FE69-0919-4CE7-BFE6-1931002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A2F-48EF-4372-B126-C11BEB55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520-57C3-47BB-87C7-6748277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B600-8BD8-4150-939D-0EE8B83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DB8-48DD-4C53-8340-CFEE14B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8833-1356-4A23-9E87-9032A0FD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17B-E7DA-45C1-871B-9A853964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782F-AD53-4190-BB34-36E61DA4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BF0D-C836-4C5A-8C61-E2E19AA7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5A2B-6F98-427D-BB4A-3071FB58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B82C-BB50-4AD9-B701-9D4625D5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EAF1-530B-4955-8678-5E23BCB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09F-1318-465A-913F-151AED95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4DCA-0D4C-4751-BE8F-9298101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3A76-A319-4594-AF39-DA90361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38EC-EE14-4E34-9D03-CBE1F8C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58D9-CCBC-435A-8976-5C7A1A0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5B16-6B0E-42EF-AF19-B665B9D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6E36-1422-42D7-B6C7-3A0294A5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D3FB-B1F0-4761-AC04-013DE9BD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671F-F456-47BC-9731-6C63C834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9502-88E9-47BF-B1D5-6D00664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BB3B-3230-4190-90C1-5ED8904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D00-ABA8-42FA-8007-AD0F7C0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E45E-7CCF-431B-B888-ADC532CD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D539-FBF1-45D5-A4F2-91128E35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3B61-EE6A-4B80-8DFB-15CF09C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5A97-550A-4D42-9C4E-384AC19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8C03-B934-45E7-9EBD-A3A839E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D298-70F7-432D-B533-163188A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A5EB-9D77-4A68-B6E9-AE5C5DF7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F199F-044A-43BA-AFE2-51E4B558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7EEE-9A90-43F0-9ACB-B6266826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F890-281B-4AC9-8319-E33C39AC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205-FE67-46E7-B6D7-7BD9A7F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4C2F-BC01-4EA5-8D21-BC46FA4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4D08C-8A1B-4831-B3EC-8D3DA54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EF368-9648-4066-89C6-086E29BA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0630-4D3B-4821-BF92-139390E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303D-101D-4B50-A5D2-31C5A691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765D-D766-4582-91FC-B55C4C4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9DFD-641E-4F22-B8C0-E3DCDE8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D8F2-0B9D-4B2F-8E7D-2378B33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A6D6-EA75-4A08-A965-1E11D6DC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197A-BA81-406B-9221-94C0F40B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AE5-0F12-494D-93E7-BF086FE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21E1-4DDC-48F9-A7E7-12A51DC5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46F0-CB54-4D4B-AF76-2F63DDB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5BD8-4612-457B-96CD-9C5F5A5A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FD6F-589C-4A2A-A1B7-025945D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9806-2038-43D5-8734-AEC7B0D1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6F8B-1B59-4953-8883-C45774A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804E-B237-4A6C-AAED-7785F95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685E-A59A-49A4-A374-7029693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178A-6325-4A51-A3C5-FBE730C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B962-66A8-489A-B4D0-A2CD6B0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9A-4791-4B6B-B421-049B0DC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4B33-AC0B-442D-BC0E-0A5D303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D314-5708-40FB-8D68-8551A34C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0575-C07E-45B1-9C3D-6B23E863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415E-08E3-4AB0-A615-22A53D8B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3F9A-647F-424D-8FBA-F2CF0BD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8C01-BD8F-4F3D-BB01-C060D7E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2CDBD-2DCD-4320-B6CE-4A63171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EF27-1C1F-43A7-9737-07C47311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FB67-95AE-48C9-B5D5-D0ADF0F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A8A5-FB92-49BC-8243-EFDA26B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C15-56E7-4616-A292-A0F471B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5E0C-A828-4FEC-A60B-66F6AB3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1FB0-4303-468C-AFD5-62D11FC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CD4F-E10D-4981-88DA-2927601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B764-5EED-4CD6-934B-BDA0F5F9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D3B5-49A6-4079-9AC8-B9BDE94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BE75-5F18-4035-B2C7-090AA986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3F27-7B64-466A-8F10-96CC1BE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FF69-B83F-4764-BDD0-388DDD6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409E1-073C-4D36-9036-300D9AC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72EB-C74E-482A-B351-DFB62CC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0B2-A3B2-4EC0-B762-CF60641C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B9CA1-B776-411C-A115-F6A2C1C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5B1EC-A273-4F58-9B12-26307B7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D778-5E63-44D1-ABE4-948A815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4F2F-6DB9-4637-8A2B-D628D91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96F9-6BFF-4F6A-9181-C85861F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7C94-DBA7-4D5A-85FC-3A866C27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CCDB0-9B98-424B-BB0C-EA17ED43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0D8E0-B157-4870-AECB-44DEDAD6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6AE70-A1E8-4E77-8BD0-5691A089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7786-6CB1-4B09-97C2-E148B37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7AE2-D13B-4884-A4C8-66DE1FAC38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5CE-C438-466D-A81A-1F9F0C8B5E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2A51-AE3A-4474-83CF-7AB0925AE3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A9A-6527-40C9-BA95-63E758479C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84E-1AE0-4E28-8198-A54BEB2D73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B86-F6B9-40A1-BD98-AD04A505EB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CA8-3092-4299-A8C5-340B5FE96E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064-CE79-49F2-8EFF-3E9705E087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02F-4F14-4591-9F13-C7EFD9B80F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975A-2947-42CC-A748-D215993F14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93E-A0E1-41A9-8018-8A5691C98C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BFA-4ADE-4577-B559-A76160C9F2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8 Tak príjemne je,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mô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3"/>
          <p:cNvSpPr/>
          <p:nvPr/>
        </p:nvSpPr>
        <p:spPr>
          <a:xfrm>
            <a:off x="0" y="323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8 Tak príjemne je, Bože môj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príjemne je, Bož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ty prebý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de, Hospodine zástup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ám svoje miesto máš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prednosť vždy si pokladám byť blízko teba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z večnej spásy prameňa piť vodu živú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vtáča vie si mies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jsť pri tvojom oltár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de mil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tvoja pokoj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hojne obdarí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všetko tvorstvo pamätáš, nad nami hojne bd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 láskou k tebe blíži sa, rád si ho privin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v tvojich sieňach najmilší zo všetkých pre mň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am z tvojho Slova vzácneho sa srdce radu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2:57:44Z</dcterms:modified>
  <cp:revision>23</cp:revision>
  <dc:subject/>
  <dc:title>Je veľký náš Pán, on slávy je Kráľ Nech do všetkých strán  spev vrúcnych znie chvál.</dc:title>
</cp:coreProperties>
</file>